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82d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164A6-0003-47A1-8EDC-2304D38D4E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40258-BD83-4576-ACBE-9D57FED01D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6AF1C-26DA-4EA4-AAF0-19C58B4EEE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45006-666B-46B7-8DB9-71885C9F45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703C2-B932-4D0A-ABE4-05277D50BA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3B14D-3DFC-4E1F-9A54-FA80FAF46A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16F2B-8FAB-41FC-84DE-EB86386CED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9BD9D-A5BF-4645-A119-DA523D3109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0C681-2394-4646-8CB4-618DE8B6C6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E9C78-C051-4EE6-957A-F466C5DE91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1BD20-0FD9-4EF4-A71C-D4984259EA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11BAD-EF67-4929-A2EC-C7CA2F4CA1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B03FA-01A7-4A64-96A1-02E02754D7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160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10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24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160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10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5160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10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824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5160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10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82d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6014880"/>
            <a:ext cx="9144000" cy="843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228600" y="6238800"/>
            <a:ext cx="1060560" cy="374760"/>
          </a:xfrm>
          <a:prstGeom prst="rect">
            <a:avLst/>
          </a:prstGeom>
          <a:ln w="0">
            <a:noFill/>
          </a:ln>
        </p:spPr>
      </p:pic>
      <p:sp>
        <p:nvSpPr>
          <p:cNvPr id="4" name="Oval 5"/>
          <p:cNvSpPr/>
          <p:nvPr/>
        </p:nvSpPr>
        <p:spPr>
          <a:xfrm>
            <a:off x="8561520" y="6093000"/>
            <a:ext cx="547560" cy="5475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4B3351-96EC-443B-A218-50D2AD5BAE5B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8326440" y="555300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7E80EE-5FD3-4FF3-B027-81DF7B124991}" type="slidenum">
              <a:rPr b="1" lang="en-A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0" y="6629400"/>
            <a:ext cx="430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800" spc="-1" strike="noStrike">
                <a:solidFill>
                  <a:srgbClr val="ffffff"/>
                </a:solidFill>
                <a:latin typeface="Arial"/>
              </a:rPr>
              <a:t>Copyright © 2010 The Nielsen Company. Confidential and propriet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-17640" y="0"/>
            <a:ext cx="9185400" cy="6856560"/>
            <a:chOff x="-17640" y="0"/>
            <a:chExt cx="9185400" cy="6856560"/>
          </a:xfrm>
        </p:grpSpPr>
        <p:pic>
          <p:nvPicPr>
            <p:cNvPr id="44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3"/>
            <p:cNvGrpSpPr/>
            <p:nvPr/>
          </p:nvGrpSpPr>
          <p:grpSpPr>
            <a:xfrm>
              <a:off x="6396120" y="4587840"/>
              <a:ext cx="1827000" cy="1827360"/>
              <a:chOff x="6396120" y="4587840"/>
              <a:chExt cx="1827000" cy="1827360"/>
            </a:xfrm>
          </p:grpSpPr>
          <p:sp>
            <p:nvSpPr>
              <p:cNvPr id="46" name="Oval 4"/>
              <p:cNvSpPr/>
              <p:nvPr/>
            </p:nvSpPr>
            <p:spPr>
              <a:xfrm>
                <a:off x="6396120" y="4587840"/>
                <a:ext cx="1827000" cy="182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7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624720" y="5154480"/>
                <a:ext cx="1369800" cy="48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" name="Picture 6" descr=""/>
            <p:cNvPicPr/>
            <p:nvPr/>
          </p:nvPicPr>
          <p:blipFill>
            <a:blip r:embed="rId4"/>
            <a:stretch/>
          </p:blipFill>
          <p:spPr>
            <a:xfrm>
              <a:off x="-17640" y="5526000"/>
              <a:ext cx="9185400" cy="13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82d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Title of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0948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Live Active and Phil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3200" spc="-1" strike="noStrike">
                <a:solidFill>
                  <a:srgbClr val="f7983f"/>
                </a:solidFill>
                <a:latin typeface="Arial"/>
              </a:rPr>
              <a:t>Unique appeal and over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11280" y="3830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AU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November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09480" y="458640"/>
            <a:ext cx="3732480" cy="1428840"/>
          </a:xfrm>
          <a:prstGeom prst="rect">
            <a:avLst/>
          </a:prstGeom>
          <a:ln w="0">
            <a:noFill/>
          </a:ln>
        </p:spPr>
      </p:pic>
      <p:sp>
        <p:nvSpPr>
          <p:cNvPr id="99" name="Oval 4"/>
          <p:cNvSpPr/>
          <p:nvPr/>
        </p:nvSpPr>
        <p:spPr>
          <a:xfrm>
            <a:off x="6227640" y="239760"/>
            <a:ext cx="2613240" cy="261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1"/>
          <p:cNvGraphicFramePr/>
          <p:nvPr/>
        </p:nvGraphicFramePr>
        <p:xfrm>
          <a:off x="0" y="133992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992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2"/>
          <p:cNvGraphicFramePr/>
          <p:nvPr/>
        </p:nvGraphicFramePr>
        <p:xfrm>
          <a:off x="0" y="568800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8800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1-2 Member Households make up 67.8% of  Live Active buyers, and 71.9% of solus buyers. The larger households become more important amongst the duplicating buy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0360" y="1339920"/>
            <a:ext cx="3132360" cy="580680"/>
          </a:xfrm>
          <a:prstGeom prst="rect">
            <a:avLst/>
          </a:prstGeom>
          <a:solidFill>
            <a:srgbClr val="616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hilly has a larger proportion of 3-4 and 5+ Member househol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68360" y="3213000"/>
            <a:ext cx="3311640" cy="2562480"/>
          </a:xfrm>
          <a:prstGeom prst="rect">
            <a:avLst/>
          </a:prstGeom>
          <a:noFill/>
          <a:ln w="19080">
            <a:solidFill>
              <a:srgbClr val="6163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"/>
          <p:cNvGrpSpPr/>
          <p:nvPr/>
        </p:nvGrpSpPr>
        <p:grpSpPr>
          <a:xfrm>
            <a:off x="-17640" y="0"/>
            <a:ext cx="9185400" cy="6856560"/>
            <a:chOff x="-17640" y="0"/>
            <a:chExt cx="9185400" cy="6856560"/>
          </a:xfrm>
        </p:grpSpPr>
        <p:pic>
          <p:nvPicPr>
            <p:cNvPr id="14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Group 3"/>
            <p:cNvGrpSpPr/>
            <p:nvPr/>
          </p:nvGrpSpPr>
          <p:grpSpPr>
            <a:xfrm>
              <a:off x="6396120" y="4587840"/>
              <a:ext cx="1827000" cy="1827360"/>
              <a:chOff x="6396120" y="4587840"/>
              <a:chExt cx="1827000" cy="1827360"/>
            </a:xfrm>
          </p:grpSpPr>
          <p:sp>
            <p:nvSpPr>
              <p:cNvPr id="150" name="Oval 4"/>
              <p:cNvSpPr/>
              <p:nvPr/>
            </p:nvSpPr>
            <p:spPr>
              <a:xfrm>
                <a:off x="6396120" y="4587840"/>
                <a:ext cx="1827000" cy="182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51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624720" y="5181480"/>
                <a:ext cx="1369800" cy="48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2" name="Picture 6" descr=""/>
            <p:cNvPicPr/>
            <p:nvPr/>
          </p:nvPicPr>
          <p:blipFill>
            <a:blip r:embed="rId3"/>
            <a:stretch/>
          </p:blipFill>
          <p:spPr>
            <a:xfrm>
              <a:off x="-17640" y="5526000"/>
              <a:ext cx="9185400" cy="13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7"/>
          <p:cNvSpPr/>
          <p:nvPr/>
        </p:nvSpPr>
        <p:spPr>
          <a:xfrm>
            <a:off x="831960" y="1743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34920" y="44280"/>
            <a:ext cx="79185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82d1"/>
                </a:solidFill>
                <a:latin typeface="Arial"/>
              </a:rPr>
              <a:t>Key highl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2200" y="692280"/>
            <a:ext cx="83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616365"/>
                </a:solidFill>
                <a:latin typeface="Arial"/>
              </a:rPr>
              <a:t>Do buyers duplicate across Kraft Live Active &amp; Philadelphia Cream Chee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For LiveActive 160g Mini Tubs and Philly 160g Tubs, with just 5.9% of total buyers duplic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3960" indent="-169920">
              <a:lnSpc>
                <a:spcPct val="95000"/>
              </a:lnSpc>
              <a:buClr>
                <a:srgbClr val="0082d1"/>
              </a:buClr>
              <a:buFont typeface="Times New Roman"/>
              <a:buChar char="–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  <a:ea typeface="ＭＳ Ｐゴシック"/>
              </a:rPr>
              <a:t>This equates to 14.8% of Live Active 160g buyers duplicating with Philly 160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616365"/>
                </a:solidFill>
                <a:latin typeface="Arial"/>
              </a:rPr>
              <a:t>Who buys Live Active exclusively? Who buys in conjunction with Philly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Independent Singles make up one third of Live Active’s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55+ make up over half of Live Active’s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Low and Medium Income HHs are particularly important amongst Live Active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1-2 Member Households make up 71.9% of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Duplicating buyers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have a slightly more balanced profile, also bringing into Live Active - Senior Couples and Families, High Income HHs, Large HHs, and younger Primary Shopper Age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8097840" y="115920"/>
            <a:ext cx="1011240" cy="1011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1"/>
          <p:cNvGraphicFramePr/>
          <p:nvPr/>
        </p:nvGraphicFramePr>
        <p:xfrm>
          <a:off x="108000" y="1092240"/>
          <a:ext cx="8964720" cy="47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092240"/>
                    <a:ext cx="896472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2"/>
          <p:cNvSpPr/>
          <p:nvPr/>
        </p:nvSpPr>
        <p:spPr>
          <a:xfrm>
            <a:off x="108000" y="76320"/>
            <a:ext cx="8785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82d1"/>
                </a:solidFill>
                <a:latin typeface="Arial"/>
              </a:rPr>
              <a:t>Do buyers duplicate across Kraft Live Active Mini Tub160g &amp; Philadelphia Cream 160G Mini Tub range Cheese?</a:t>
            </a:r>
            <a:br>
              <a:rPr sz="1800"/>
            </a:br>
            <a:r>
              <a:rPr b="0" lang="en-US" sz="1800" spc="-1" strike="noStrike">
                <a:solidFill>
                  <a:srgbClr val="0082d1"/>
                </a:solidFill>
                <a:latin typeface="Arial"/>
              </a:rPr>
              <a:t>Compared to the total range, Live Active Mini Tubs has a much higher proportion of solus buyers (85.3%) vs buyers duplicating with Philly 160g Tubs (14.8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1960" y="5343480"/>
            <a:ext cx="28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616365"/>
                </a:solidFill>
                <a:latin typeface="Arial"/>
              </a:rPr>
              <a:t>Nielsen Homescan (Australia) – Issue # 5125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0" y="133992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992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"/>
          <p:cNvGraphicFramePr/>
          <p:nvPr/>
        </p:nvGraphicFramePr>
        <p:xfrm>
          <a:off x="0" y="566244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6244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Senior Couples and Independent Singles are Live Active’s most important life stage groups in terms of buyers and volume contribution (see next slide). Independent Singles make up 1/3 of the range’s solus buyers. The most notable duplicating buyers are Senior Coup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940360" y="1339920"/>
            <a:ext cx="3132360" cy="824040"/>
          </a:xfrm>
          <a:prstGeom prst="rect">
            <a:avLst/>
          </a:prstGeom>
          <a:solidFill>
            <a:srgbClr val="616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hilly has a more balanced demographic make up, highlighting it’s broad 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"/>
          <p:cNvGraphicFramePr/>
          <p:nvPr/>
        </p:nvGraphicFramePr>
        <p:xfrm>
          <a:off x="0" y="126828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55+ is Live Active’s most important Primary Shopper Age group in terms of buyers and volume contribution (see next slide). This same group makes up over ½ the range’s solus buyers. The younger buyer groups are more prominent amongst duplicating buy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1"/>
          <p:cNvGraphicFramePr/>
          <p:nvPr/>
        </p:nvGraphicFramePr>
        <p:xfrm>
          <a:off x="0" y="119556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556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2"/>
          <p:cNvGraphicFramePr/>
          <p:nvPr/>
        </p:nvGraphicFramePr>
        <p:xfrm>
          <a:off x="0" y="551664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1664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The Low and Medium Income groups are more important to Live Active than to Philly; this is particularly the case amongst the solus buyers. High Income buyers become more representative amongst duplicating buy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8360" y="3213000"/>
            <a:ext cx="3311640" cy="2376720"/>
          </a:xfrm>
          <a:prstGeom prst="rect">
            <a:avLst/>
          </a:prstGeom>
          <a:noFill/>
          <a:ln w="19080">
            <a:solidFill>
              <a:srgbClr val="6163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5:58:51Z</dcterms:created>
  <dc:creator>Bevan-Jones, Victoria</dc:creator>
  <dc:description/>
  <dc:language>en-US</dc:language>
  <cp:lastModifiedBy>Lynne Waterson</cp:lastModifiedBy>
  <dcterms:modified xsi:type="dcterms:W3CDTF">2012-04-15T21:23:38Z</dcterms:modified>
  <cp:revision>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untry">
    <vt:lpwstr>*Global</vt:lpwstr>
  </property>
  <property fmtid="{D5CDD505-2E9C-101B-9397-08002B2CF9AE}" pid="4" name="Details">
    <vt:lpwstr>Please use this template ONLY in Microsoft Office 2003. Opening the document in later versions can have unexpected results.</vt:lpwstr>
  </property>
  <property fmtid="{D5CDD505-2E9C-101B-9397-08002B2CF9AE}" pid="5" name="FreshnessDate">
    <vt:lpwstr>2010-07-12T00:00:00Z</vt:lpwstr>
  </property>
  <property fmtid="{D5CDD505-2E9C-101B-9397-08002B2CF9AE}" pid="6" name="North American Consumer Group">
    <vt:lpwstr>0</vt:lpwstr>
  </property>
  <property fmtid="{D5CDD505-2E9C-101B-9397-08002B2CF9AE}" pid="7" name="PrimaryContact">
    <vt:lpwstr>160</vt:lpwstr>
  </property>
  <property fmtid="{D5CDD505-2E9C-101B-9397-08002B2CF9AE}" pid="8" name="Region">
    <vt:lpwstr>*Global</vt:lpwstr>
  </property>
  <property fmtid="{D5CDD505-2E9C-101B-9397-08002B2CF9AE}" pid="9" name="Topic">
    <vt:lpwstr>Templates</vt:lpwstr>
  </property>
  <property fmtid="{D5CDD505-2E9C-101B-9397-08002B2CF9AE}" pid="10" name="display_urn:schemas-microsoft-com:office:office#PrimaryContact">
    <vt:lpwstr>Mackay-Sim, Ana</vt:lpwstr>
  </property>
</Properties>
</file>