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dt" idx="2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15/02/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82d1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sldNum" idx="3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E636BF-CCB9-4A65-AC63-28CA42B2391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15/02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07CCAD-5270-4848-A378-739E89CDFFD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15/02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DAACDA-F145-488D-B892-FFA77676C24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15/02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D914AA-DEF8-4E3A-A8E6-10DA524D50D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15/02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BF1794-1441-4CD7-8990-6BDA2DD8B3E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15/02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8B18E0-C4DC-4F0B-9E04-926B4D7496C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15/02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C90814-B8EA-4D1B-8D35-51DFDCA7A8A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15/02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625F4A-1381-453C-98F6-88252047851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15/02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FF3E48-F0A2-48BE-B1BC-8DC0C866923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15/02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3A6A2B-91BE-4FFD-9AC8-D430078AEF5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15/02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BA0851-BB7A-4B1E-823D-BBD51A78559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15/02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32EEBC-737D-4CC2-9B4D-68D4C069390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15/02/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06516E-4E38-4C22-B756-F9CCBF7E2A7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82480" y="1125000"/>
            <a:ext cx="81900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82480" y="3436920"/>
            <a:ext cx="81900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82480" y="1125000"/>
            <a:ext cx="39963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79000" y="1125000"/>
            <a:ext cx="39963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2480" y="3436920"/>
            <a:ext cx="39963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79000" y="3436920"/>
            <a:ext cx="39963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82480" y="1125000"/>
            <a:ext cx="26370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51600" y="1125000"/>
            <a:ext cx="26370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1080" y="1125000"/>
            <a:ext cx="26370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82480" y="3436920"/>
            <a:ext cx="26370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51600" y="3436920"/>
            <a:ext cx="26370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1080" y="3436920"/>
            <a:ext cx="26370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82480" y="1125000"/>
            <a:ext cx="8190000" cy="44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82480" y="1125000"/>
            <a:ext cx="81900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82480" y="1125000"/>
            <a:ext cx="399636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79000" y="1125000"/>
            <a:ext cx="399636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2560" cy="27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82480" y="1125000"/>
            <a:ext cx="39963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79000" y="1125000"/>
            <a:ext cx="399636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82480" y="3436920"/>
            <a:ext cx="39963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82480" y="1125000"/>
            <a:ext cx="8190000" cy="44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82480" y="1125000"/>
            <a:ext cx="399636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79000" y="1125000"/>
            <a:ext cx="39963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79000" y="3436920"/>
            <a:ext cx="39963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82480" y="1125000"/>
            <a:ext cx="39963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79000" y="1125000"/>
            <a:ext cx="39963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82480" y="3436920"/>
            <a:ext cx="81900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82480" y="1125000"/>
            <a:ext cx="81900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82480" y="3436920"/>
            <a:ext cx="81900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82480" y="1125000"/>
            <a:ext cx="39963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79000" y="1125000"/>
            <a:ext cx="39963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82480" y="3436920"/>
            <a:ext cx="39963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79000" y="3436920"/>
            <a:ext cx="39963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82480" y="1125000"/>
            <a:ext cx="26370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51600" y="1125000"/>
            <a:ext cx="26370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1080" y="1125000"/>
            <a:ext cx="26370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82480" y="3436920"/>
            <a:ext cx="26370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51600" y="3436920"/>
            <a:ext cx="26370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1080" y="3436920"/>
            <a:ext cx="26370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82480" y="1125000"/>
            <a:ext cx="81900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82480" y="1125000"/>
            <a:ext cx="399636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79000" y="1125000"/>
            <a:ext cx="399636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2560" cy="27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82480" y="1125000"/>
            <a:ext cx="39963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79000" y="1125000"/>
            <a:ext cx="399636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82480" y="3436920"/>
            <a:ext cx="39963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82480" y="1125000"/>
            <a:ext cx="399636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79000" y="1125000"/>
            <a:ext cx="39963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79000" y="3436920"/>
            <a:ext cx="39963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82480" y="1125000"/>
            <a:ext cx="39963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79000" y="1125000"/>
            <a:ext cx="39963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82480" y="3436920"/>
            <a:ext cx="81900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82480" y="1125000"/>
            <a:ext cx="81900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616365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616365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616365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616365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616365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616365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616365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82d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0" y="6014880"/>
            <a:ext cx="9144000" cy="84312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" descr=""/>
          <p:cNvPicPr/>
          <p:nvPr/>
        </p:nvPicPr>
        <p:blipFill>
          <a:blip r:embed="rId3"/>
          <a:stretch/>
        </p:blipFill>
        <p:spPr>
          <a:xfrm>
            <a:off x="228600" y="6238800"/>
            <a:ext cx="1060560" cy="374760"/>
          </a:xfrm>
          <a:prstGeom prst="rect">
            <a:avLst/>
          </a:prstGeom>
          <a:ln w="0">
            <a:noFill/>
          </a:ln>
        </p:spPr>
      </p:pic>
      <p:sp>
        <p:nvSpPr>
          <p:cNvPr id="4" name="Oval 5"/>
          <p:cNvSpPr/>
          <p:nvPr/>
        </p:nvSpPr>
        <p:spPr>
          <a:xfrm>
            <a:off x="8561520" y="6093000"/>
            <a:ext cx="547560" cy="54756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4D21287-9639-4DA3-A3FE-AB71FF28C6B7}" type="slidenum">
              <a:rPr b="1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Text Box 6"/>
          <p:cNvSpPr/>
          <p:nvPr/>
        </p:nvSpPr>
        <p:spPr>
          <a:xfrm>
            <a:off x="8326440" y="5553000"/>
            <a:ext cx="5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03F7F13-C842-4925-80EA-1A08BB212F38}" type="slidenum">
              <a:rPr b="1" lang="en-AU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Text Box 7"/>
          <p:cNvSpPr/>
          <p:nvPr/>
        </p:nvSpPr>
        <p:spPr>
          <a:xfrm>
            <a:off x="4572000" y="6629400"/>
            <a:ext cx="4302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800" spc="-1" strike="noStrike">
                <a:solidFill>
                  <a:srgbClr val="ffffff"/>
                </a:solidFill>
                <a:latin typeface="Arial"/>
              </a:rPr>
              <a:t>Copyright © 2010 The Nielsen Company. Confidential and proprietary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1"/>
          <p:cNvGrpSpPr/>
          <p:nvPr/>
        </p:nvGrpSpPr>
        <p:grpSpPr>
          <a:xfrm>
            <a:off x="-17640" y="0"/>
            <a:ext cx="9185400" cy="6856560"/>
            <a:chOff x="-17640" y="0"/>
            <a:chExt cx="9185400" cy="6856560"/>
          </a:xfrm>
        </p:grpSpPr>
        <p:pic>
          <p:nvPicPr>
            <p:cNvPr id="44" name="Picture 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2560" cy="6856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" name="Group 3"/>
            <p:cNvGrpSpPr/>
            <p:nvPr/>
          </p:nvGrpSpPr>
          <p:grpSpPr>
            <a:xfrm>
              <a:off x="6396120" y="4587840"/>
              <a:ext cx="1827000" cy="1827360"/>
              <a:chOff x="6396120" y="4587840"/>
              <a:chExt cx="1827000" cy="1827360"/>
            </a:xfrm>
          </p:grpSpPr>
          <p:sp>
            <p:nvSpPr>
              <p:cNvPr id="46" name="Oval 4"/>
              <p:cNvSpPr/>
              <p:nvPr/>
            </p:nvSpPr>
            <p:spPr>
              <a:xfrm>
                <a:off x="6396120" y="4587840"/>
                <a:ext cx="1827000" cy="1827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47" name="Pictur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6624720" y="5154480"/>
                <a:ext cx="1369800" cy="4827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8" name="Picture 6" descr=""/>
            <p:cNvPicPr/>
            <p:nvPr/>
          </p:nvPicPr>
          <p:blipFill>
            <a:blip r:embed="rId4"/>
            <a:stretch/>
          </p:blipFill>
          <p:spPr>
            <a:xfrm>
              <a:off x="-17640" y="5526000"/>
              <a:ext cx="9185400" cy="133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582480" y="1125000"/>
            <a:ext cx="81900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616365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616365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616365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616365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616365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616365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616365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16365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82d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82d1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1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Title of Pres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"/>
          <p:cNvSpPr/>
          <p:nvPr/>
        </p:nvSpPr>
        <p:spPr>
          <a:xfrm>
            <a:off x="609480" y="22464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4000" spc="-1" strike="noStrike">
                <a:solidFill>
                  <a:srgbClr val="ffffff"/>
                </a:solidFill>
                <a:latin typeface="Arial"/>
              </a:rPr>
              <a:t>Live Active and Phill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AU" sz="3200" spc="-1" strike="noStrike">
                <a:solidFill>
                  <a:srgbClr val="f7983f"/>
                </a:solidFill>
                <a:latin typeface="Arial"/>
              </a:rPr>
              <a:t>Unique appeal and overla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11280" y="38307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29</a:t>
            </a:r>
            <a:r>
              <a:rPr b="0" lang="en-AU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November 20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609480" y="458640"/>
            <a:ext cx="3732480" cy="1428840"/>
          </a:xfrm>
          <a:prstGeom prst="rect">
            <a:avLst/>
          </a:prstGeom>
          <a:ln w="0">
            <a:noFill/>
          </a:ln>
        </p:spPr>
      </p:pic>
      <p:sp>
        <p:nvSpPr>
          <p:cNvPr id="99" name="Oval 4"/>
          <p:cNvSpPr/>
          <p:nvPr/>
        </p:nvSpPr>
        <p:spPr>
          <a:xfrm>
            <a:off x="6227640" y="239760"/>
            <a:ext cx="2613240" cy="26128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6163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Object 1"/>
          <p:cNvGraphicFramePr/>
          <p:nvPr/>
        </p:nvGraphicFramePr>
        <p:xfrm>
          <a:off x="0" y="1339920"/>
          <a:ext cx="9144000" cy="489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39920"/>
                    <a:ext cx="9144000" cy="48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Object 2"/>
          <p:cNvGraphicFramePr/>
          <p:nvPr/>
        </p:nvGraphicFramePr>
        <p:xfrm>
          <a:off x="0" y="5688000"/>
          <a:ext cx="4067280" cy="36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688000"/>
                    <a:ext cx="406728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Text Box 3"/>
          <p:cNvSpPr/>
          <p:nvPr/>
        </p:nvSpPr>
        <p:spPr>
          <a:xfrm>
            <a:off x="101520" y="57240"/>
            <a:ext cx="87915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82d1"/>
                </a:solidFill>
                <a:latin typeface="Arial"/>
              </a:rPr>
              <a:t>Who buys Live Active exclusively, and who buys in conjunction with Philly? </a:t>
            </a:r>
            <a:r>
              <a:rPr b="0" i="1" lang="en-US" sz="1600" spc="-1" strike="noStrike">
                <a:solidFill>
                  <a:srgbClr val="0082d1"/>
                </a:solidFill>
                <a:latin typeface="Arial"/>
              </a:rPr>
              <a:t>1-2 Member Households make up 67.8% of  Live Active buyers, and 71.9% of solus buyers. The larger households become more important amongst the duplicating buyer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940360" y="1339920"/>
            <a:ext cx="3132360" cy="580680"/>
          </a:xfrm>
          <a:prstGeom prst="rect">
            <a:avLst/>
          </a:prstGeom>
          <a:solidFill>
            <a:srgbClr val="6163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Philly has a larger proportion of 3-4 and 5+ Member househol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468360" y="3213000"/>
            <a:ext cx="3311640" cy="2562480"/>
          </a:xfrm>
          <a:prstGeom prst="rect">
            <a:avLst/>
          </a:prstGeom>
          <a:noFill/>
          <a:ln w="19080">
            <a:solidFill>
              <a:srgbClr val="61636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Object 1"/>
          <p:cNvGraphicFramePr/>
          <p:nvPr/>
        </p:nvGraphicFramePr>
        <p:xfrm>
          <a:off x="0" y="981000"/>
          <a:ext cx="9144000" cy="489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81000"/>
                    <a:ext cx="9144000" cy="48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2"/>
          <p:cNvGraphicFramePr/>
          <p:nvPr/>
        </p:nvGraphicFramePr>
        <p:xfrm>
          <a:off x="0" y="5589720"/>
          <a:ext cx="4067280" cy="36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589720"/>
                    <a:ext cx="406728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1"/>
          <p:cNvGrpSpPr/>
          <p:nvPr/>
        </p:nvGrpSpPr>
        <p:grpSpPr>
          <a:xfrm>
            <a:off x="-17640" y="0"/>
            <a:ext cx="9185400" cy="6856560"/>
            <a:chOff x="-17640" y="0"/>
            <a:chExt cx="9185400" cy="6856560"/>
          </a:xfrm>
        </p:grpSpPr>
        <p:pic>
          <p:nvPicPr>
            <p:cNvPr id="148" name="Picture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2560" cy="6856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9" name="Group 3"/>
            <p:cNvGrpSpPr/>
            <p:nvPr/>
          </p:nvGrpSpPr>
          <p:grpSpPr>
            <a:xfrm>
              <a:off x="6396120" y="4587840"/>
              <a:ext cx="1827000" cy="1827360"/>
              <a:chOff x="6396120" y="4587840"/>
              <a:chExt cx="1827000" cy="1827360"/>
            </a:xfrm>
          </p:grpSpPr>
          <p:sp>
            <p:nvSpPr>
              <p:cNvPr id="150" name="Oval 4"/>
              <p:cNvSpPr/>
              <p:nvPr/>
            </p:nvSpPr>
            <p:spPr>
              <a:xfrm>
                <a:off x="6396120" y="4587840"/>
                <a:ext cx="1827000" cy="1827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151" name="Pictur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624720" y="5181480"/>
                <a:ext cx="1369800" cy="4827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52" name="Picture 6" descr=""/>
            <p:cNvPicPr/>
            <p:nvPr/>
          </p:nvPicPr>
          <p:blipFill>
            <a:blip r:embed="rId3"/>
            <a:stretch/>
          </p:blipFill>
          <p:spPr>
            <a:xfrm>
              <a:off x="-17640" y="5526000"/>
              <a:ext cx="9185400" cy="133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Text Box 7"/>
          <p:cNvSpPr/>
          <p:nvPr/>
        </p:nvSpPr>
        <p:spPr>
          <a:xfrm>
            <a:off x="831960" y="17431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34920" y="44280"/>
            <a:ext cx="791856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AU" sz="3200" spc="-1" strike="noStrike">
                <a:solidFill>
                  <a:srgbClr val="0082d1"/>
                </a:solidFill>
                <a:latin typeface="Arial"/>
              </a:rPr>
              <a:t>Key highligh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322200" y="692280"/>
            <a:ext cx="835344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43040"/>
                <a:tab algn="l" pos="1657440"/>
                <a:tab algn="l" pos="2571840"/>
                <a:tab algn="l" pos="3486240"/>
                <a:tab algn="l" pos="4400640"/>
                <a:tab algn="l" pos="5315040"/>
                <a:tab algn="l" pos="6229440"/>
                <a:tab algn="l" pos="7143840"/>
                <a:tab algn="l" pos="8058240"/>
                <a:tab algn="l" pos="8972640"/>
                <a:tab algn="l" pos="988704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616365"/>
                </a:solidFill>
                <a:latin typeface="Arial"/>
              </a:rPr>
              <a:t>Do buyers duplicate across Kraft Live Active &amp; Philadelphia Cream Chees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0082d1"/>
              </a:buClr>
              <a:buFont typeface="Times New Roman"/>
              <a:buChar char="•"/>
              <a:tabLst>
                <a:tab algn="l" pos="743040"/>
                <a:tab algn="l" pos="1657440"/>
                <a:tab algn="l" pos="2571840"/>
                <a:tab algn="l" pos="3486240"/>
                <a:tab algn="l" pos="4400640"/>
                <a:tab algn="l" pos="5315040"/>
                <a:tab algn="l" pos="6229440"/>
                <a:tab algn="l" pos="7143840"/>
                <a:tab algn="l" pos="8058240"/>
                <a:tab algn="l" pos="8972640"/>
                <a:tab algn="l" pos="988704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For LiveActive 160g Mini Tubs and Philly 160g Tubs, with just 5.9% of total buyers duplic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3960" indent="-169920">
              <a:lnSpc>
                <a:spcPct val="95000"/>
              </a:lnSpc>
              <a:buClr>
                <a:srgbClr val="0082d1"/>
              </a:buClr>
              <a:buFont typeface="Times New Roman"/>
              <a:buChar char="–"/>
              <a:tabLst>
                <a:tab algn="l" pos="743040"/>
                <a:tab algn="l" pos="1657440"/>
                <a:tab algn="l" pos="2571840"/>
                <a:tab algn="l" pos="3486240"/>
                <a:tab algn="l" pos="4400640"/>
                <a:tab algn="l" pos="5315040"/>
                <a:tab algn="l" pos="6229440"/>
                <a:tab algn="l" pos="7143840"/>
                <a:tab algn="l" pos="8058240"/>
                <a:tab algn="l" pos="8972640"/>
                <a:tab algn="l" pos="988704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616365"/>
                </a:solidFill>
                <a:latin typeface="Arial"/>
                <a:ea typeface="ＭＳ Ｐゴシック"/>
              </a:rPr>
              <a:t>This equates to 14.8% of Live Active 160g buyers duplicating with Philly 160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43040"/>
                <a:tab algn="l" pos="1657440"/>
                <a:tab algn="l" pos="2571840"/>
                <a:tab algn="l" pos="3486240"/>
                <a:tab algn="l" pos="4400640"/>
                <a:tab algn="l" pos="5315040"/>
                <a:tab algn="l" pos="6229440"/>
                <a:tab algn="l" pos="7143840"/>
                <a:tab algn="l" pos="8058240"/>
                <a:tab algn="l" pos="8972640"/>
                <a:tab algn="l" pos="988704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43040"/>
                <a:tab algn="l" pos="1657440"/>
                <a:tab algn="l" pos="2571840"/>
                <a:tab algn="l" pos="3486240"/>
                <a:tab algn="l" pos="4400640"/>
                <a:tab algn="l" pos="5315040"/>
                <a:tab algn="l" pos="6229440"/>
                <a:tab algn="l" pos="7143840"/>
                <a:tab algn="l" pos="8058240"/>
                <a:tab algn="l" pos="8972640"/>
                <a:tab algn="l" pos="988704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616365"/>
                </a:solidFill>
                <a:latin typeface="Arial"/>
              </a:rPr>
              <a:t>Who buys Live Active exclusively? Who buys in conjunction with Philly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0082d1"/>
              </a:buClr>
              <a:buFont typeface="Times New Roman"/>
              <a:buChar char="•"/>
              <a:tabLst>
                <a:tab algn="l" pos="743040"/>
                <a:tab algn="l" pos="1657440"/>
                <a:tab algn="l" pos="2571840"/>
                <a:tab algn="l" pos="3486240"/>
                <a:tab algn="l" pos="4400640"/>
                <a:tab algn="l" pos="5315040"/>
                <a:tab algn="l" pos="6229440"/>
                <a:tab algn="l" pos="7143840"/>
                <a:tab algn="l" pos="8058240"/>
                <a:tab algn="l" pos="8972640"/>
                <a:tab algn="l" pos="988704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Independent Singles make up one third of Live Active’s </a:t>
            </a:r>
            <a:r>
              <a:rPr b="1" i="1" lang="en-US" sz="1800" spc="-1" strike="noStrike">
                <a:solidFill>
                  <a:srgbClr val="f7983f"/>
                </a:solidFill>
                <a:latin typeface="Arial"/>
              </a:rPr>
              <a:t>solus buy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0082d1"/>
              </a:buClr>
              <a:buFont typeface="Times New Roman"/>
              <a:buChar char="•"/>
              <a:tabLst>
                <a:tab algn="l" pos="743040"/>
                <a:tab algn="l" pos="1657440"/>
                <a:tab algn="l" pos="2571840"/>
                <a:tab algn="l" pos="3486240"/>
                <a:tab algn="l" pos="4400640"/>
                <a:tab algn="l" pos="5315040"/>
                <a:tab algn="l" pos="6229440"/>
                <a:tab algn="l" pos="7143840"/>
                <a:tab algn="l" pos="8058240"/>
                <a:tab algn="l" pos="8972640"/>
                <a:tab algn="l" pos="988704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55+ make up over half of Live Active’s </a:t>
            </a:r>
            <a:r>
              <a:rPr b="1" i="1" lang="en-US" sz="1800" spc="-1" strike="noStrike">
                <a:solidFill>
                  <a:srgbClr val="f7983f"/>
                </a:solidFill>
                <a:latin typeface="Arial"/>
              </a:rPr>
              <a:t>solus buy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0082d1"/>
              </a:buClr>
              <a:buFont typeface="Times New Roman"/>
              <a:buChar char="•"/>
              <a:tabLst>
                <a:tab algn="l" pos="743040"/>
                <a:tab algn="l" pos="1657440"/>
                <a:tab algn="l" pos="2571840"/>
                <a:tab algn="l" pos="3486240"/>
                <a:tab algn="l" pos="4400640"/>
                <a:tab algn="l" pos="5315040"/>
                <a:tab algn="l" pos="6229440"/>
                <a:tab algn="l" pos="7143840"/>
                <a:tab algn="l" pos="8058240"/>
                <a:tab algn="l" pos="8972640"/>
                <a:tab algn="l" pos="988704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Low and Medium Income HHs are particularly important amongst Live Active </a:t>
            </a:r>
            <a:r>
              <a:rPr b="1" i="1" lang="en-US" sz="1800" spc="-1" strike="noStrike">
                <a:solidFill>
                  <a:srgbClr val="f7983f"/>
                </a:solidFill>
                <a:latin typeface="Arial"/>
              </a:rPr>
              <a:t>solus buy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0082d1"/>
              </a:buClr>
              <a:buFont typeface="Times New Roman"/>
              <a:buChar char="•"/>
              <a:tabLst>
                <a:tab algn="l" pos="743040"/>
                <a:tab algn="l" pos="1657440"/>
                <a:tab algn="l" pos="2571840"/>
                <a:tab algn="l" pos="3486240"/>
                <a:tab algn="l" pos="4400640"/>
                <a:tab algn="l" pos="5315040"/>
                <a:tab algn="l" pos="6229440"/>
                <a:tab algn="l" pos="7143840"/>
                <a:tab algn="l" pos="8058240"/>
                <a:tab algn="l" pos="8972640"/>
                <a:tab algn="l" pos="988704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1-2 Member Households make up 71.9% of </a:t>
            </a:r>
            <a:r>
              <a:rPr b="1" i="1" lang="en-US" sz="1800" spc="-1" strike="noStrike">
                <a:solidFill>
                  <a:srgbClr val="f7983f"/>
                </a:solidFill>
                <a:latin typeface="Arial"/>
              </a:rPr>
              <a:t>solus buy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0082d1"/>
              </a:buClr>
              <a:buFont typeface="Times New Roman"/>
              <a:buChar char="•"/>
              <a:tabLst>
                <a:tab algn="l" pos="743040"/>
                <a:tab algn="l" pos="1657440"/>
                <a:tab algn="l" pos="2571840"/>
                <a:tab algn="l" pos="3486240"/>
                <a:tab algn="l" pos="4400640"/>
                <a:tab algn="l" pos="5315040"/>
                <a:tab algn="l" pos="6229440"/>
                <a:tab algn="l" pos="7143840"/>
                <a:tab algn="l" pos="8058240"/>
                <a:tab algn="l" pos="8972640"/>
                <a:tab algn="l" pos="988704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f7983f"/>
                </a:solidFill>
                <a:latin typeface="Arial"/>
              </a:rPr>
              <a:t>Duplicating buyers </a:t>
            </a: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have a slightly more balanced profile, also bringing into Live Active - Senior Couples and Families, High Income HHs, Large HHs, and younger Primary Shopper Age group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Oval 3"/>
          <p:cNvSpPr/>
          <p:nvPr/>
        </p:nvSpPr>
        <p:spPr>
          <a:xfrm>
            <a:off x="8097840" y="115920"/>
            <a:ext cx="1011240" cy="10112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6163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Object 1"/>
          <p:cNvGraphicFramePr/>
          <p:nvPr/>
        </p:nvGraphicFramePr>
        <p:xfrm>
          <a:off x="108000" y="1092240"/>
          <a:ext cx="8964720" cy="4784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092240"/>
                    <a:ext cx="8964720" cy="478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Rectangle 2"/>
          <p:cNvSpPr/>
          <p:nvPr/>
        </p:nvSpPr>
        <p:spPr>
          <a:xfrm>
            <a:off x="108000" y="76320"/>
            <a:ext cx="8785080" cy="10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0082d1"/>
                </a:solidFill>
                <a:latin typeface="Arial"/>
              </a:rPr>
              <a:t>Do buyers duplicate across Kraft Live Active Mini Tub160g &amp; Philadelphia Cream 160G Mini Tub range Cheese?</a:t>
            </a:r>
            <a:br>
              <a:rPr sz="1800"/>
            </a:br>
            <a:r>
              <a:rPr b="0" lang="en-US" sz="1800" spc="-1" strike="noStrike">
                <a:solidFill>
                  <a:srgbClr val="0082d1"/>
                </a:solidFill>
                <a:latin typeface="Arial"/>
              </a:rPr>
              <a:t>Compared to the total range, Live Active Mini Tubs has a much higher proportion of solus buyers (85.3%) vs buyers duplicating with Philly 160g Tubs (14.8%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381960" y="5343480"/>
            <a:ext cx="285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616365"/>
                </a:solidFill>
                <a:latin typeface="Arial"/>
              </a:rPr>
              <a:t>Nielsen Homescan (Australia) – Issue # 51251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Object 1"/>
          <p:cNvGraphicFramePr/>
          <p:nvPr/>
        </p:nvGraphicFramePr>
        <p:xfrm>
          <a:off x="0" y="1339920"/>
          <a:ext cx="9144000" cy="489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39920"/>
                    <a:ext cx="9144000" cy="48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Object 2"/>
          <p:cNvGraphicFramePr/>
          <p:nvPr/>
        </p:nvGraphicFramePr>
        <p:xfrm>
          <a:off x="0" y="5662440"/>
          <a:ext cx="4067280" cy="36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662440"/>
                    <a:ext cx="406728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Text Box 3"/>
          <p:cNvSpPr/>
          <p:nvPr/>
        </p:nvSpPr>
        <p:spPr>
          <a:xfrm>
            <a:off x="101520" y="57240"/>
            <a:ext cx="87915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82d1"/>
                </a:solidFill>
                <a:latin typeface="Arial"/>
              </a:rPr>
              <a:t>Who buys Live Active exclusively, and who buys in conjunction with Philly? </a:t>
            </a:r>
            <a:r>
              <a:rPr b="0" i="1" lang="en-US" sz="1600" spc="-1" strike="noStrike">
                <a:solidFill>
                  <a:srgbClr val="0082d1"/>
                </a:solidFill>
                <a:latin typeface="Arial"/>
              </a:rPr>
              <a:t>Senior Couples and Independent Singles are Live Active’s most important life stage groups in terms of buyers and volume contribution (see next slide). Independent Singles make up 1/3 of the range’s solus buyers. The most notable duplicating buyers are Senior Coupl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5940360" y="1339920"/>
            <a:ext cx="3132360" cy="824040"/>
          </a:xfrm>
          <a:prstGeom prst="rect">
            <a:avLst/>
          </a:prstGeom>
          <a:solidFill>
            <a:srgbClr val="6163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Philly has a more balanced demographic make up, highlighting it’s broad appe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Object 1"/>
          <p:cNvGraphicFramePr/>
          <p:nvPr/>
        </p:nvGraphicFramePr>
        <p:xfrm>
          <a:off x="0" y="981000"/>
          <a:ext cx="9144000" cy="489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81000"/>
                    <a:ext cx="9144000" cy="48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2"/>
          <p:cNvGraphicFramePr/>
          <p:nvPr/>
        </p:nvGraphicFramePr>
        <p:xfrm>
          <a:off x="0" y="5589720"/>
          <a:ext cx="4067280" cy="36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589720"/>
                    <a:ext cx="406728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Object 1"/>
          <p:cNvGraphicFramePr/>
          <p:nvPr/>
        </p:nvGraphicFramePr>
        <p:xfrm>
          <a:off x="0" y="1268280"/>
          <a:ext cx="9144000" cy="489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68280"/>
                    <a:ext cx="9144000" cy="48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Object 2"/>
          <p:cNvGraphicFramePr/>
          <p:nvPr/>
        </p:nvGraphicFramePr>
        <p:xfrm>
          <a:off x="0" y="5589720"/>
          <a:ext cx="4067280" cy="36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589720"/>
                    <a:ext cx="406728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Text Box 3"/>
          <p:cNvSpPr/>
          <p:nvPr/>
        </p:nvSpPr>
        <p:spPr>
          <a:xfrm>
            <a:off x="101520" y="57240"/>
            <a:ext cx="87915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82d1"/>
                </a:solidFill>
                <a:latin typeface="Arial"/>
              </a:rPr>
              <a:t>Who buys Live Active exclusively, and who buys in conjunction with Philly? </a:t>
            </a:r>
            <a:r>
              <a:rPr b="0" i="1" lang="en-US" sz="1600" spc="-1" strike="noStrike">
                <a:solidFill>
                  <a:srgbClr val="0082d1"/>
                </a:solidFill>
                <a:latin typeface="Arial"/>
              </a:rPr>
              <a:t>55+ is Live Active’s most important Primary Shopper Age group in terms of buyers and volume contribution (see next slide). This same group makes up over ½ the range’s solus buyers. The younger buyer groups are more prominent amongst duplicating buyer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Object 1"/>
          <p:cNvGraphicFramePr/>
          <p:nvPr/>
        </p:nvGraphicFramePr>
        <p:xfrm>
          <a:off x="0" y="981000"/>
          <a:ext cx="9144000" cy="489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81000"/>
                    <a:ext cx="9144000" cy="48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Object 2"/>
          <p:cNvGraphicFramePr/>
          <p:nvPr/>
        </p:nvGraphicFramePr>
        <p:xfrm>
          <a:off x="0" y="5589720"/>
          <a:ext cx="4067280" cy="36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589720"/>
                    <a:ext cx="406728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Object 1"/>
          <p:cNvGraphicFramePr/>
          <p:nvPr/>
        </p:nvGraphicFramePr>
        <p:xfrm>
          <a:off x="0" y="1195560"/>
          <a:ext cx="9144000" cy="489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95560"/>
                    <a:ext cx="9144000" cy="48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Object 2"/>
          <p:cNvGraphicFramePr/>
          <p:nvPr/>
        </p:nvGraphicFramePr>
        <p:xfrm>
          <a:off x="0" y="5516640"/>
          <a:ext cx="4067280" cy="36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516640"/>
                    <a:ext cx="406728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Text Box 3"/>
          <p:cNvSpPr/>
          <p:nvPr/>
        </p:nvSpPr>
        <p:spPr>
          <a:xfrm>
            <a:off x="101520" y="57240"/>
            <a:ext cx="87915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82d1"/>
                </a:solidFill>
                <a:latin typeface="Arial"/>
              </a:rPr>
              <a:t>Who buys Live Active exclusively, and who buys in conjunction with Philly? </a:t>
            </a:r>
            <a:r>
              <a:rPr b="0" i="1" lang="en-US" sz="1600" spc="-1" strike="noStrike">
                <a:solidFill>
                  <a:srgbClr val="0082d1"/>
                </a:solidFill>
                <a:latin typeface="Arial"/>
              </a:rPr>
              <a:t>The Low and Medium Income groups are more important to Live Active than to Philly; this is particularly the case amongst the solus buyers. High Income buyers become more representative amongst duplicating buyer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468360" y="3213000"/>
            <a:ext cx="3311640" cy="2376720"/>
          </a:xfrm>
          <a:prstGeom prst="rect">
            <a:avLst/>
          </a:prstGeom>
          <a:noFill/>
          <a:ln w="19080">
            <a:solidFill>
              <a:srgbClr val="61636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Object 1"/>
          <p:cNvGraphicFramePr/>
          <p:nvPr/>
        </p:nvGraphicFramePr>
        <p:xfrm>
          <a:off x="0" y="981000"/>
          <a:ext cx="9144000" cy="489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81000"/>
                    <a:ext cx="9144000" cy="48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Object 2"/>
          <p:cNvGraphicFramePr/>
          <p:nvPr/>
        </p:nvGraphicFramePr>
        <p:xfrm>
          <a:off x="0" y="5589720"/>
          <a:ext cx="4067280" cy="36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589720"/>
                    <a:ext cx="406728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31T05:58:51Z</dcterms:created>
  <dc:creator>Bevan-Jones, Victoria</dc:creator>
  <dc:description/>
  <dc:language>en-US</dc:language>
  <cp:lastModifiedBy>Lynne Waterson</cp:lastModifiedBy>
  <dcterms:modified xsi:type="dcterms:W3CDTF">2012-04-15T21:23:38Z</dcterms:modified>
  <cp:revision>7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  <property fmtid="{D5CDD505-2E9C-101B-9397-08002B2CF9AE}" pid="3" name="Country">
    <vt:lpwstr>*Global</vt:lpwstr>
  </property>
  <property fmtid="{D5CDD505-2E9C-101B-9397-08002B2CF9AE}" pid="4" name="Details">
    <vt:lpwstr>Please use this template ONLY in Microsoft Office 2003. Opening the document in later versions can have unexpected results.</vt:lpwstr>
  </property>
  <property fmtid="{D5CDD505-2E9C-101B-9397-08002B2CF9AE}" pid="5" name="FreshnessDate">
    <vt:lpwstr>2010-07-12T00:00:00Z</vt:lpwstr>
  </property>
  <property fmtid="{D5CDD505-2E9C-101B-9397-08002B2CF9AE}" pid="6" name="North American Consumer Group">
    <vt:lpwstr>0</vt:lpwstr>
  </property>
  <property fmtid="{D5CDD505-2E9C-101B-9397-08002B2CF9AE}" pid="7" name="PrimaryContact">
    <vt:lpwstr>160</vt:lpwstr>
  </property>
  <property fmtid="{D5CDD505-2E9C-101B-9397-08002B2CF9AE}" pid="8" name="Region">
    <vt:lpwstr>*Global</vt:lpwstr>
  </property>
  <property fmtid="{D5CDD505-2E9C-101B-9397-08002B2CF9AE}" pid="9" name="Topic">
    <vt:lpwstr>Templates</vt:lpwstr>
  </property>
  <property fmtid="{D5CDD505-2E9C-101B-9397-08002B2CF9AE}" pid="10" name="display_urn:schemas-microsoft-com:office:office#PrimaryContact">
    <vt:lpwstr>Mackay-Sim, Ana</vt:lpwstr>
  </property>
</Properties>
</file>